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596-853E-4D98-AA10-350052F9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A21-C549-4837-9E3F-68AF783D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3B7-DE97-4205-ACCD-1EEF65B1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8E6-5F15-4FCA-85BA-1F3D187A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B30-994B-4250-95B9-C8B0E1F6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1F8-6C98-4CBC-BE96-C04DBED9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12C-1AC8-4563-947A-266043E8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231-80DE-4398-BA27-FC859AD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8E3-D177-4D3A-83FB-76431E2B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BED-2A77-4346-BB42-C1652FE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B79-E547-4F42-BD09-A5C934B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DBC-39D5-4FD5-A8AC-429D14E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CB17-EBA5-42A2-AFF8-FB4EE791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ail.google.com/mail/?ui=2&amp;ik=3092105b5b&amp;view=att&amp;th=1358918ba7f918e6&amp;attid=0.1&amp;disp=inline&amp;realattid=f_gyql5ife0&amp;safe=1&amp;z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 Project: Fort Hu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Huger was a fort located on the Croatan Sound of Roanoke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t was used during the United States Civil War, during the Battle of Roanok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Signific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had 12 guns that were mounted on the sides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t was surrendered on February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862 to the Union tro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>
            <a:hlinkClick r:id="rId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493848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Battle Summary: Roanoke Island, NC." U.S. National Park Service - Experience Your America. Web. 16 Feb. 20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5:23:15Z</dcterms:created>
  <dc:creator>dcsuser</dc:creator>
  <dc:description/>
  <dc:language>en-US</dc:language>
  <cp:lastModifiedBy>FISHER</cp:lastModifiedBy>
  <cp:lastPrinted>2012-02-17T02:41:20Z</cp:lastPrinted>
  <dcterms:modified xsi:type="dcterms:W3CDTF">2012-02-17T02:42:03Z</dcterms:modified>
  <cp:revision>6</cp:revision>
  <dc:subject/>
  <dc:title>Unit  Project </dc:title>
</cp:coreProperties>
</file>